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313-D9AC-4BC1-88E0-0325DEE9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6A2-769A-4721-9EEE-5B628B34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F0C-661D-478E-AB60-5EE5E109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958-1D10-4020-9E4D-E29F71DB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D6DD-7184-47D6-8805-89613F6B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204F-D8F2-474F-815B-9C042E83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F810-7795-4439-BAB1-7606CA98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3FA4-F4B4-42BB-92CF-A6D044AD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4459-FB78-4FA2-AF19-23A6D32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0DE7-BB86-4EE5-9EEA-60D8C811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5403-5B01-4363-A39B-A121997A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661-67E6-458B-BD47-AD729BD7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853F-384C-4FBA-8BD1-11512C34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FD2E-BC30-4CB3-9D80-DA0123C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E061-A285-42A5-8EB0-BCAD734C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B956-C090-4EC8-A046-2AAB9139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F2A6-B414-425F-A7A4-8262B486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33C-918A-4208-B814-F2F59AD4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DFB-2FA4-45FF-8F0B-12844B04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338-555A-4A64-B707-50AFAC54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203-5F25-4CC1-B579-A2CD1824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128-024F-4638-8A12-86CD4B06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5BC-46FB-46AA-8967-4E10121C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2FE-BF4B-435D-906C-8B706D4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A08A-ED7A-4AFE-8E44-4976906E485D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BDC-502B-4132-B215-3F3F0CB263B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FEF2-4D45-4BD9-A5B3-FC4E6D940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9CEF-9C58-4B71-9D89-7431C027AB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1790640"/>
            <a:ext cx="9144000" cy="1695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"/>
          <p:cNvSpPr/>
          <p:nvPr/>
        </p:nvSpPr>
        <p:spPr>
          <a:xfrm>
            <a:off x="2771640" y="2817720"/>
            <a:ext cx="360072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9440" y="1974600"/>
            <a:ext cx="77724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Franklin Gothic Medium"/>
              </a:rPr>
              <a:t>本章复习和总结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182400" y="2917440"/>
            <a:ext cx="297036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R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八年级下册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1428840" y="863640"/>
            <a:ext cx="6181560" cy="3321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61960" y="249120"/>
            <a:ext cx="7718400" cy="581400"/>
          </a:xfrm>
          <a:prstGeom prst="rect">
            <a:avLst/>
          </a:prstGeom>
          <a:solidFill>
            <a:srgbClr val="ffcfb7"/>
          </a:solidFill>
          <a:ln w="6480">
            <a:solidFill>
              <a:srgbClr val="ff87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想一想：这两幅图说明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284120" y="4232160"/>
            <a:ext cx="6696360" cy="584280"/>
          </a:xfrm>
          <a:prstGeom prst="wedgeRectCallout">
            <a:avLst>
              <a:gd name="adj1" fmla="val -5523"/>
              <a:gd name="adj2" fmla="val -177444"/>
            </a:avLst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物体间力的作用是相互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416520" y="3087720"/>
            <a:ext cx="667800" cy="56988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8"/>
          <p:cNvGrpSpPr/>
          <p:nvPr/>
        </p:nvGrpSpPr>
        <p:grpSpPr>
          <a:xfrm>
            <a:off x="1087560" y="2408400"/>
            <a:ext cx="2060280" cy="1871640"/>
            <a:chOff x="1087560" y="2408400"/>
            <a:chExt cx="2060280" cy="1871640"/>
          </a:xfrm>
        </p:grpSpPr>
        <p:sp>
          <p:nvSpPr>
            <p:cNvPr id="162" name="Text Box 3"/>
            <p:cNvSpPr/>
            <p:nvPr/>
          </p:nvSpPr>
          <p:spPr>
            <a:xfrm>
              <a:off x="2081160" y="3698640"/>
              <a:ext cx="1066680" cy="581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重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"/>
            <p:cNvSpPr/>
            <p:nvPr/>
          </p:nvSpPr>
          <p:spPr>
            <a:xfrm>
              <a:off x="2066760" y="2408400"/>
              <a:ext cx="1038240" cy="581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弹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21"/>
            <p:cNvGrpSpPr/>
            <p:nvPr/>
          </p:nvGrpSpPr>
          <p:grpSpPr>
            <a:xfrm>
              <a:off x="1087560" y="2712960"/>
              <a:ext cx="978840" cy="1296000"/>
              <a:chOff x="1087560" y="2712960"/>
              <a:chExt cx="978840" cy="1296000"/>
            </a:xfrm>
          </p:grpSpPr>
          <p:sp>
            <p:nvSpPr>
              <p:cNvPr id="165" name="直接连接符 6"/>
              <p:cNvSpPr/>
              <p:nvPr/>
            </p:nvSpPr>
            <p:spPr>
              <a:xfrm flipH="1">
                <a:off x="1584720" y="2730240"/>
                <a:ext cx="1800" cy="127872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7"/>
              <p:cNvSpPr/>
              <p:nvPr/>
            </p:nvSpPr>
            <p:spPr>
              <a:xfrm>
                <a:off x="1087560" y="3382200"/>
                <a:ext cx="504360" cy="432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7" name="直接箭头连接符 8"/>
              <p:cNvCxnSpPr/>
              <p:nvPr/>
            </p:nvCxnSpPr>
            <p:spPr>
              <a:xfrm>
                <a:off x="1599840" y="2712960"/>
                <a:ext cx="466920" cy="216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round/>
                <a:tailEnd len="med" type="triangle" w="med"/>
              </a:ln>
            </p:spPr>
          </p:cxnSp>
          <p:cxnSp>
            <p:nvCxnSpPr>
              <p:cNvPr id="168" name="直接箭头连接符 9"/>
              <p:cNvCxnSpPr/>
              <p:nvPr/>
            </p:nvCxnSpPr>
            <p:spPr>
              <a:xfrm>
                <a:off x="1599840" y="3991680"/>
                <a:ext cx="466920" cy="180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round/>
                <a:tailEnd len="med" type="triangle" w="med"/>
              </a:ln>
            </p:spPr>
          </p:cxnSp>
        </p:grpSp>
      </p:grpSp>
      <p:grpSp>
        <p:nvGrpSpPr>
          <p:cNvPr id="169" name="组合 19"/>
          <p:cNvGrpSpPr/>
          <p:nvPr/>
        </p:nvGrpSpPr>
        <p:grpSpPr>
          <a:xfrm>
            <a:off x="3200400" y="1025640"/>
            <a:ext cx="5241960" cy="3079440"/>
            <a:chOff x="3200400" y="1025640"/>
            <a:chExt cx="5241960" cy="3079440"/>
          </a:xfrm>
        </p:grpSpPr>
        <p:sp>
          <p:nvSpPr>
            <p:cNvPr id="170" name="Text Box 9"/>
            <p:cNvSpPr/>
            <p:nvPr/>
          </p:nvSpPr>
          <p:spPr>
            <a:xfrm>
              <a:off x="4400280" y="2288520"/>
              <a:ext cx="404208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物体发生的弹性形变越大，产生的弹力也越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4400280" y="1025640"/>
              <a:ext cx="403056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定义：物体发生弹性形变时所产生的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4400280" y="3551400"/>
              <a:ext cx="399096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弹簧测力计的原理和使用方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0"/>
            <p:cNvGrpSpPr/>
            <p:nvPr/>
          </p:nvGrpSpPr>
          <p:grpSpPr>
            <a:xfrm>
              <a:off x="3200400" y="1485720"/>
              <a:ext cx="1209600" cy="2619360"/>
              <a:chOff x="3200400" y="1485720"/>
              <a:chExt cx="1209600" cy="2619360"/>
            </a:xfrm>
          </p:grpSpPr>
          <p:sp>
            <p:nvSpPr>
              <p:cNvPr id="174" name="Line 12"/>
              <p:cNvSpPr/>
              <p:nvPr/>
            </p:nvSpPr>
            <p:spPr>
              <a:xfrm>
                <a:off x="3647880" y="1485720"/>
                <a:ext cx="76212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3"/>
              <p:cNvSpPr/>
              <p:nvPr/>
            </p:nvSpPr>
            <p:spPr>
              <a:xfrm>
                <a:off x="3200400" y="2719800"/>
                <a:ext cx="117144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4"/>
              <p:cNvSpPr/>
              <p:nvPr/>
            </p:nvSpPr>
            <p:spPr>
              <a:xfrm>
                <a:off x="3676320" y="4089240"/>
                <a:ext cx="72072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5"/>
              <p:cNvSpPr/>
              <p:nvPr/>
            </p:nvSpPr>
            <p:spPr>
              <a:xfrm>
                <a:off x="3663720" y="1501560"/>
                <a:ext cx="0" cy="2603520"/>
              </a:xfrm>
              <a:prstGeom prst="line">
                <a:avLst/>
              </a:prstGeom>
              <a:ln w="381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4"/>
          <p:cNvSpPr/>
          <p:nvPr/>
        </p:nvSpPr>
        <p:spPr>
          <a:xfrm>
            <a:off x="568440" y="270000"/>
            <a:ext cx="172692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2357280" y="279360"/>
            <a:ext cx="37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弹力、弹簧测力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矩形 1" descr=""/>
          <p:cNvPicPr/>
          <p:nvPr/>
        </p:nvPicPr>
        <p:blipFill>
          <a:blip r:embed="rId1"/>
          <a:stretch/>
        </p:blipFill>
        <p:spPr>
          <a:xfrm>
            <a:off x="684360" y="920880"/>
            <a:ext cx="7764480" cy="3711600"/>
          </a:xfrm>
          <a:prstGeom prst="rect">
            <a:avLst/>
          </a:prstGeom>
          <a:ln w="0">
            <a:noFill/>
          </a:ln>
        </p:spPr>
      </p:pic>
      <p:sp>
        <p:nvSpPr>
          <p:cNvPr id="181" name="矩形 2"/>
          <p:cNvSpPr/>
          <p:nvPr/>
        </p:nvSpPr>
        <p:spPr>
          <a:xfrm>
            <a:off x="896760" y="3935520"/>
            <a:ext cx="27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都产生了弹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1019160" y="18108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三个事例都是两个物体互相接触且发生了弹性形变，从而产生了弹力，弹力改变了物体的运动状态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714240" y="2421000"/>
            <a:ext cx="782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打篮球时，篮球会从地面弹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"/>
          <p:cNvSpPr/>
          <p:nvPr/>
        </p:nvSpPr>
        <p:spPr>
          <a:xfrm>
            <a:off x="617400" y="1006560"/>
            <a:ext cx="7974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小明看到跳水运动员被跳板高高弹起，思考“弹力的大小跟哪些因素有关”的问题，并提出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猜想一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：弹力的大小与形变量有关；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猜想二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：弹力的大小与长度有关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请你提出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猜想三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：弹力的大小与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有关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897200" y="30304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物体的厚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5" descr=""/>
          <p:cNvPicPr/>
          <p:nvPr/>
        </p:nvPicPr>
        <p:blipFill>
          <a:blip r:embed="rId1"/>
          <a:stretch/>
        </p:blipFill>
        <p:spPr>
          <a:xfrm>
            <a:off x="1566720" y="3186000"/>
            <a:ext cx="6178680" cy="1785960"/>
          </a:xfrm>
          <a:prstGeom prst="rect">
            <a:avLst/>
          </a:prstGeom>
          <a:ln w="0">
            <a:noFill/>
          </a:ln>
        </p:spPr>
      </p:pic>
      <p:sp>
        <p:nvSpPr>
          <p:cNvPr id="187" name="矩形 1"/>
          <p:cNvSpPr/>
          <p:nvPr/>
        </p:nvSpPr>
        <p:spPr>
          <a:xfrm>
            <a:off x="617400" y="272880"/>
            <a:ext cx="7926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小明找来钢锯片、弹簧测力计、台钳 来验证猜想一，用同一钢锯片按下图从左到右顺序做的三次实验（将钢锯片夹在台钳内，钢锯片形变量用末端侧移量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表示，钢锯片长度用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表示）请对小明的实验过程进行评估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657360" y="2268360"/>
            <a:ext cx="7829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没有控制钢锯片的长度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"/>
          <p:cNvSpPr/>
          <p:nvPr/>
        </p:nvSpPr>
        <p:spPr>
          <a:xfrm>
            <a:off x="579600" y="378000"/>
            <a:ext cx="7840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小明又正确探究了弹力与钢锯片长度的关系，记录数据如下表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636480" y="3549600"/>
            <a:ext cx="7926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分析实验数据，可得出结论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723960" y="3506760"/>
            <a:ext cx="7972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钢锯片在形变量相同时，弹力随长度的增大而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76240" y="1549440"/>
          <a:ext cx="7334280" cy="1828800"/>
        </p:xfrm>
        <a:graphic>
          <a:graphicData uri="http://schemas.openxmlformats.org/drawingml/2006/table">
            <a:tbl>
              <a:tblPr/>
              <a:tblGrid>
                <a:gridCol w="1833480"/>
                <a:gridCol w="1833480"/>
                <a:gridCol w="1833840"/>
                <a:gridCol w="18334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实验次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形变量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长度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弹力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矩形 1" descr=""/>
          <p:cNvPicPr/>
          <p:nvPr/>
        </p:nvPicPr>
        <p:blipFill>
          <a:blip r:embed="rId1"/>
          <a:stretch/>
        </p:blipFill>
        <p:spPr>
          <a:xfrm>
            <a:off x="569880" y="387360"/>
            <a:ext cx="80946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2155680" y="281160"/>
            <a:ext cx="5112000" cy="2838240"/>
          </a:xfrm>
          <a:prstGeom prst="rect">
            <a:avLst/>
          </a:prstGeom>
          <a:ln w="0">
            <a:noFill/>
          </a:ln>
        </p:spPr>
      </p:pic>
      <p:sp>
        <p:nvSpPr>
          <p:cNvPr id="195" name="矩形 2"/>
          <p:cNvSpPr/>
          <p:nvPr/>
        </p:nvSpPr>
        <p:spPr>
          <a:xfrm>
            <a:off x="436680" y="3073320"/>
            <a:ext cx="815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分析比较图中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和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或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和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中的测力计示数、弹簧长度的增加量以及相关条件，可得：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"/>
          <p:cNvSpPr/>
          <p:nvPr/>
        </p:nvSpPr>
        <p:spPr>
          <a:xfrm>
            <a:off x="534960" y="3894120"/>
            <a:ext cx="813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同材料制成的弹簧，原长与横截面积相同，在同样大小外力作用下，伸长的长度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2155680" y="281160"/>
            <a:ext cx="5112000" cy="2838240"/>
          </a:xfrm>
          <a:prstGeom prst="rect">
            <a:avLst/>
          </a:prstGeom>
          <a:ln w="0">
            <a:noFill/>
          </a:ln>
        </p:spPr>
      </p:pic>
      <p:sp>
        <p:nvSpPr>
          <p:cNvPr id="198" name="矩形 2"/>
          <p:cNvSpPr/>
          <p:nvPr/>
        </p:nvSpPr>
        <p:spPr>
          <a:xfrm>
            <a:off x="436680" y="3073320"/>
            <a:ext cx="815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分析比较图中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和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或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和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中的测力计示数、弹簧长度的增加量以及相关条件，可得：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534960" y="3884760"/>
            <a:ext cx="80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材料、横截面积相同的弹簧，原长不同，在同样大小外力作用下，伸长长度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565560" y="2149560"/>
            <a:ext cx="6678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2293920" y="2741760"/>
            <a:ext cx="10666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重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49640" y="1508040"/>
            <a:ext cx="10936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弹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4"/>
          <p:cNvGrpSpPr/>
          <p:nvPr/>
        </p:nvGrpSpPr>
        <p:grpSpPr>
          <a:xfrm>
            <a:off x="1276200" y="1809360"/>
            <a:ext cx="978120" cy="1258920"/>
            <a:chOff x="1276200" y="1809360"/>
            <a:chExt cx="978120" cy="1258920"/>
          </a:xfrm>
        </p:grpSpPr>
        <p:sp>
          <p:nvSpPr>
            <p:cNvPr id="204" name="直接连接符 13"/>
            <p:cNvSpPr/>
            <p:nvPr/>
          </p:nvSpPr>
          <p:spPr>
            <a:xfrm flipH="1">
              <a:off x="1781280" y="1826640"/>
              <a:ext cx="1800" cy="124164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4"/>
            <p:cNvSpPr/>
            <p:nvPr/>
          </p:nvSpPr>
          <p:spPr>
            <a:xfrm>
              <a:off x="1276200" y="2459520"/>
              <a:ext cx="50364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直接箭头连接符 15"/>
            <p:cNvCxnSpPr/>
            <p:nvPr/>
          </p:nvCxnSpPr>
          <p:spPr>
            <a:xfrm>
              <a:off x="1788120" y="1809360"/>
              <a:ext cx="466560" cy="1800"/>
            </a:xfrm>
            <a:prstGeom prst="straightConnector1">
              <a:avLst/>
            </a:prstGeom>
            <a:ln w="38160">
              <a:solidFill>
                <a:srgbClr val="002060"/>
              </a:solidFill>
              <a:round/>
              <a:tailEnd len="med" type="triangle" w="med"/>
            </a:ln>
          </p:spPr>
        </p:cxnSp>
        <p:cxnSp>
          <p:nvCxnSpPr>
            <p:cNvPr id="207" name="直接箭头连接符 16"/>
            <p:cNvCxnSpPr/>
            <p:nvPr/>
          </p:nvCxnSpPr>
          <p:spPr>
            <a:xfrm>
              <a:off x="1788120" y="3051360"/>
              <a:ext cx="466560" cy="1800"/>
            </a:xfrm>
            <a:prstGeom prst="straightConnector1">
              <a:avLst/>
            </a:prstGeom>
            <a:ln w="38160">
              <a:solidFill>
                <a:srgbClr val="002060"/>
              </a:solidFill>
              <a:round/>
              <a:tailEnd len="med" type="triangle" w="med"/>
            </a:ln>
          </p:spPr>
        </p:cxnSp>
      </p:grpSp>
      <p:grpSp>
        <p:nvGrpSpPr>
          <p:cNvPr id="208" name="组合 35"/>
          <p:cNvGrpSpPr/>
          <p:nvPr/>
        </p:nvGrpSpPr>
        <p:grpSpPr>
          <a:xfrm>
            <a:off x="3419640" y="671400"/>
            <a:ext cx="4643280" cy="3744000"/>
            <a:chOff x="3419640" y="671400"/>
            <a:chExt cx="4643280" cy="3744000"/>
          </a:xfrm>
        </p:grpSpPr>
        <p:grpSp>
          <p:nvGrpSpPr>
            <p:cNvPr id="209" name="Group 23"/>
            <p:cNvGrpSpPr/>
            <p:nvPr/>
          </p:nvGrpSpPr>
          <p:grpSpPr>
            <a:xfrm>
              <a:off x="3419640" y="1227960"/>
              <a:ext cx="1017000" cy="2980080"/>
              <a:chOff x="3419640" y="1227960"/>
              <a:chExt cx="1017000" cy="2980080"/>
            </a:xfrm>
          </p:grpSpPr>
          <p:grpSp>
            <p:nvGrpSpPr>
              <p:cNvPr id="210" name="Group 22"/>
              <p:cNvGrpSpPr/>
              <p:nvPr/>
            </p:nvGrpSpPr>
            <p:grpSpPr>
              <a:xfrm>
                <a:off x="3985920" y="1227960"/>
                <a:ext cx="450720" cy="2980080"/>
                <a:chOff x="3985920" y="1227960"/>
                <a:chExt cx="450720" cy="2980080"/>
              </a:xfrm>
            </p:grpSpPr>
            <p:sp>
              <p:nvSpPr>
                <p:cNvPr id="211" name="直接连接符 26"/>
                <p:cNvSpPr/>
                <p:nvPr/>
              </p:nvSpPr>
              <p:spPr>
                <a:xfrm flipH="1">
                  <a:off x="3985920" y="1228320"/>
                  <a:ext cx="11160" cy="297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12" name="直接箭头连接符 27"/>
                <p:cNvCxnSpPr/>
                <p:nvPr/>
              </p:nvCxnSpPr>
              <p:spPr>
                <a:xfrm>
                  <a:off x="3986280" y="1227960"/>
                  <a:ext cx="437040" cy="180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</p:cxnSp>
            <p:cxnSp>
              <p:nvCxnSpPr>
                <p:cNvPr id="213" name="直接箭头连接符 28"/>
                <p:cNvCxnSpPr/>
                <p:nvPr/>
              </p:nvCxnSpPr>
              <p:spPr>
                <a:xfrm>
                  <a:off x="3999960" y="2428560"/>
                  <a:ext cx="437040" cy="21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</p:cxnSp>
            <p:cxnSp>
              <p:nvCxnSpPr>
                <p:cNvPr id="214" name="直接箭头连接符 29"/>
                <p:cNvCxnSpPr/>
                <p:nvPr/>
              </p:nvCxnSpPr>
              <p:spPr>
                <a:xfrm>
                  <a:off x="3999960" y="3289320"/>
                  <a:ext cx="437040" cy="21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</p:cxnSp>
            <p:cxnSp>
              <p:nvCxnSpPr>
                <p:cNvPr id="215" name="直接箭头连接符 30"/>
                <p:cNvCxnSpPr/>
                <p:nvPr/>
              </p:nvCxnSpPr>
              <p:spPr>
                <a:xfrm>
                  <a:off x="3990240" y="4188240"/>
                  <a:ext cx="437040" cy="21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</p:cxnSp>
          </p:grpSp>
          <p:sp>
            <p:nvSpPr>
              <p:cNvPr id="216" name="直接连接符 25"/>
              <p:cNvSpPr/>
              <p:nvPr/>
            </p:nvSpPr>
            <p:spPr>
              <a:xfrm>
                <a:off x="3419640" y="3073320"/>
                <a:ext cx="57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矩形 31"/>
            <p:cNvSpPr/>
            <p:nvPr/>
          </p:nvSpPr>
          <p:spPr>
            <a:xfrm>
              <a:off x="4443480" y="671400"/>
              <a:ext cx="3614760" cy="605880"/>
            </a:xfrm>
            <a:prstGeom prst="rect">
              <a:avLst/>
            </a:prstGeom>
            <a:gradFill rotWithShape="0">
              <a:gsLst>
                <a:gs pos="0">
                  <a:srgbClr val="ffdecd"/>
                </a:gs>
                <a:gs pos="100000">
                  <a:srgbClr val="ffba97"/>
                </a:gs>
              </a:gsLst>
              <a:lin ang="5400000"/>
            </a:gradFill>
            <a:ln w="9360">
              <a:solidFill>
                <a:srgbClr val="ff874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定义：物体由于地球吸引而受到的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32"/>
            <p:cNvSpPr/>
            <p:nvPr/>
          </p:nvSpPr>
          <p:spPr>
            <a:xfrm>
              <a:off x="4443480" y="2159640"/>
              <a:ext cx="3614760" cy="507240"/>
            </a:xfrm>
            <a:prstGeom prst="rect">
              <a:avLst/>
            </a:prstGeom>
            <a:gradFill rotWithShape="0">
              <a:gsLst>
                <a:gs pos="0">
                  <a:srgbClr val="ffdecd"/>
                </a:gs>
                <a:gs pos="100000">
                  <a:srgbClr val="ffba97"/>
                </a:gs>
              </a:gsLst>
              <a:lin ang="5400000"/>
            </a:gradFill>
            <a:ln w="9360">
              <a:solidFill>
                <a:srgbClr val="ff874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大小：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 =m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3"/>
            <p:cNvSpPr/>
            <p:nvPr/>
          </p:nvSpPr>
          <p:spPr>
            <a:xfrm>
              <a:off x="4443480" y="3034080"/>
              <a:ext cx="3614760" cy="507240"/>
            </a:xfrm>
            <a:prstGeom prst="rect">
              <a:avLst/>
            </a:prstGeom>
            <a:gradFill rotWithShape="0">
              <a:gsLst>
                <a:gs pos="0">
                  <a:srgbClr val="ffdecd"/>
                </a:gs>
                <a:gs pos="100000">
                  <a:srgbClr val="ffba97"/>
                </a:gs>
              </a:gsLst>
              <a:lin ang="5400000"/>
            </a:gradFill>
            <a:ln w="9360">
              <a:solidFill>
                <a:srgbClr val="ff874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方向：竖直向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4"/>
            <p:cNvSpPr/>
            <p:nvPr/>
          </p:nvSpPr>
          <p:spPr>
            <a:xfrm>
              <a:off x="4448160" y="3908160"/>
              <a:ext cx="3614760" cy="507240"/>
            </a:xfrm>
            <a:prstGeom prst="rect">
              <a:avLst/>
            </a:prstGeom>
            <a:gradFill rotWithShape="0">
              <a:gsLst>
                <a:gs pos="0">
                  <a:srgbClr val="ffdecd"/>
                </a:gs>
                <a:gs pos="100000">
                  <a:srgbClr val="ffba97"/>
                </a:gs>
              </a:gsLst>
              <a:lin ang="5400000"/>
            </a:gradFill>
            <a:ln w="9360">
              <a:solidFill>
                <a:srgbClr val="ff874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作用点：重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矩形 4"/>
          <p:cNvSpPr/>
          <p:nvPr/>
        </p:nvSpPr>
        <p:spPr>
          <a:xfrm>
            <a:off x="568440" y="270000"/>
            <a:ext cx="172692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2357280" y="279360"/>
            <a:ext cx="13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重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7"/>
          <p:cNvSpPr/>
          <p:nvPr/>
        </p:nvSpPr>
        <p:spPr>
          <a:xfrm>
            <a:off x="743040" y="66204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714240" y="1133640"/>
            <a:ext cx="77914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认识力的作用效果，知道力的三要素，能用力的示意图描述力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认识弹力，知道弹簧测力计的原理，会使用弹簧测力计测量力的大小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认识重力，知道重力的方向、重心、重力的施力物体，理解重力的大小与质量成正比，会用公式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mg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计算重力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3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89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90" name="TextBox 15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标要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504720" y="152280"/>
          <a:ext cx="8134200" cy="4770360"/>
        </p:xfrm>
        <a:graphic>
          <a:graphicData uri="http://schemas.openxmlformats.org/drawingml/2006/table">
            <a:tbl>
              <a:tblPr/>
              <a:tblGrid>
                <a:gridCol w="515880"/>
                <a:gridCol w="1370160"/>
                <a:gridCol w="3029040"/>
                <a:gridCol w="3219120"/>
              </a:tblGrid>
              <a:tr h="43812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0066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9640">
                <a:tc rowSpan="6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0066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概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方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位置对大小的影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测量工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9360">
                      <a:solidFill>
                        <a:srgbClr val="ff51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联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0066"/>
                      </a:solidFill>
                    </a:lnL>
                    <a:lnR w="9360">
                      <a:solidFill>
                        <a:srgbClr val="ff51aa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51aa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9360">
                      <a:solidFill>
                        <a:srgbClr val="ff51aa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42"/>
          <p:cNvSpPr/>
          <p:nvPr/>
        </p:nvSpPr>
        <p:spPr>
          <a:xfrm>
            <a:off x="2471760" y="7491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  <a:ea typeface="楷体_GB2312"/>
              </a:rPr>
              <a:t>物体含有物质的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3"/>
          <p:cNvSpPr/>
          <p:nvPr/>
        </p:nvSpPr>
        <p:spPr>
          <a:xfrm>
            <a:off x="6264720" y="6048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楷体_GB2312"/>
              </a:rPr>
              <a:t>由于地球的吸引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楷体_GB2312"/>
              </a:rPr>
              <a:t>使物体受到的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4"/>
          <p:cNvSpPr/>
          <p:nvPr/>
        </p:nvSpPr>
        <p:spPr>
          <a:xfrm>
            <a:off x="2432160" y="1376280"/>
            <a:ext cx="28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  <a:ea typeface="楷体_GB2312"/>
              </a:rPr>
              <a:t>没有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5"/>
          <p:cNvSpPr/>
          <p:nvPr/>
        </p:nvSpPr>
        <p:spPr>
          <a:xfrm>
            <a:off x="5470560" y="138744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  <a:ea typeface="楷体_GB2312"/>
              </a:rPr>
              <a:t>总是竖直向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6"/>
          <p:cNvSpPr/>
          <p:nvPr/>
        </p:nvSpPr>
        <p:spPr>
          <a:xfrm>
            <a:off x="2598840" y="1871640"/>
            <a:ext cx="28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  <a:ea typeface="楷体_GB2312"/>
              </a:rPr>
              <a:t>是物体的固有属性，同一物体在任何地方，质量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7"/>
          <p:cNvSpPr/>
          <p:nvPr/>
        </p:nvSpPr>
        <p:spPr>
          <a:xfrm>
            <a:off x="5653080" y="1808280"/>
            <a:ext cx="29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楷体_GB2312"/>
              </a:rPr>
              <a:t>同一物体在地球不同地方或不同高度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楷体_GB2312"/>
              </a:rPr>
              <a:t>重力大小略为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2604960" y="305100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千克 （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kg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937120" y="3054240"/>
            <a:ext cx="23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牛顿（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3598920" y="346392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6707160" y="347508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3"/>
          <p:cNvSpPr/>
          <p:nvPr/>
        </p:nvSpPr>
        <p:spPr>
          <a:xfrm>
            <a:off x="3397320" y="3963960"/>
            <a:ext cx="13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alibri"/>
                <a:ea typeface="楷体_GB2312"/>
              </a:rPr>
              <a:t>天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4"/>
          <p:cNvSpPr/>
          <p:nvPr/>
        </p:nvSpPr>
        <p:spPr>
          <a:xfrm>
            <a:off x="6502320" y="3943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Calibri"/>
                <a:ea typeface="楷体_GB2312"/>
              </a:rPr>
              <a:t>弹簧测力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5"/>
          <p:cNvSpPr/>
          <p:nvPr/>
        </p:nvSpPr>
        <p:spPr>
          <a:xfrm>
            <a:off x="4861080" y="4440240"/>
            <a:ext cx="12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extBox 1" descr=""/>
          <p:cNvPicPr/>
          <p:nvPr/>
        </p:nvPicPr>
        <p:blipFill>
          <a:blip r:embed="rId1"/>
          <a:stretch/>
        </p:blipFill>
        <p:spPr>
          <a:xfrm>
            <a:off x="317520" y="101520"/>
            <a:ext cx="2963880" cy="7272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84600" y="185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重点复习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2098800" y="887400"/>
            <a:ext cx="5187960" cy="581400"/>
          </a:xfrm>
          <a:prstGeom prst="rect">
            <a:avLst/>
          </a:prstGeom>
          <a:solidFill>
            <a:srgbClr val="ffcfb7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探究重力大小跟质量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666720" y="1662120"/>
            <a:ext cx="44100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用什么工具测量重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5224320" y="1677960"/>
            <a:ext cx="21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弹簧测力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644400" y="23446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测量重力的大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631800" y="2919240"/>
            <a:ext cx="6378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质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钩码挂在弹簧测力计上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静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弹簧测力计的示数等于钩码所受的重力大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1" descr="E:\R八物下\8x73\jpg\01004001.jpg"/>
          <p:cNvPicPr/>
          <p:nvPr/>
        </p:nvPicPr>
        <p:blipFill>
          <a:blip r:embed="rId2"/>
          <a:srcRect l="28549" t="0" r="26923" b="0"/>
          <a:stretch/>
        </p:blipFill>
        <p:spPr>
          <a:xfrm>
            <a:off x="7359480" y="203040"/>
            <a:ext cx="102564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>
            <a:off x="781200" y="942840"/>
            <a:ext cx="76294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逐次增挂钩码，分别测出它们所受的重力，并记录在表格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14320" y="2300400"/>
          <a:ext cx="7572240" cy="1095120"/>
        </p:xfrm>
        <a:graphic>
          <a:graphicData uri="http://schemas.openxmlformats.org/drawingml/2006/table">
            <a:tbl>
              <a:tblPr/>
              <a:tblGrid>
                <a:gridCol w="2065320"/>
                <a:gridCol w="917640"/>
                <a:gridCol w="917640"/>
                <a:gridCol w="917640"/>
                <a:gridCol w="919080"/>
                <a:gridCol w="917640"/>
                <a:gridCol w="917280"/>
              </a:tblGrid>
              <a:tr h="57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量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力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6"/>
          <p:cNvSpPr/>
          <p:nvPr/>
        </p:nvSpPr>
        <p:spPr>
          <a:xfrm>
            <a:off x="1220040" y="3728880"/>
            <a:ext cx="1640880" cy="5205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进行实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714240" y="250920"/>
            <a:ext cx="7286760" cy="94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画出重力跟质量关系的图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质量为横坐标，重力为纵坐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"/>
          <p:cNvGrpSpPr/>
          <p:nvPr/>
        </p:nvGrpSpPr>
        <p:grpSpPr>
          <a:xfrm>
            <a:off x="4910040" y="1317600"/>
            <a:ext cx="2457360" cy="720720"/>
            <a:chOff x="4910040" y="1317600"/>
            <a:chExt cx="2457360" cy="720720"/>
          </a:xfrm>
        </p:grpSpPr>
        <p:grpSp>
          <p:nvGrpSpPr>
            <p:cNvPr id="250" name="Group 3"/>
            <p:cNvGrpSpPr/>
            <p:nvPr/>
          </p:nvGrpSpPr>
          <p:grpSpPr>
            <a:xfrm>
              <a:off x="5066280" y="1317600"/>
              <a:ext cx="2180520" cy="720720"/>
              <a:chOff x="5066280" y="1317600"/>
              <a:chExt cx="2180520" cy="720720"/>
            </a:xfrm>
          </p:grpSpPr>
          <p:sp>
            <p:nvSpPr>
              <p:cNvPr id="251" name="AutoShape 4"/>
              <p:cNvSpPr/>
              <p:nvPr/>
            </p:nvSpPr>
            <p:spPr>
              <a:xfrm>
                <a:off x="5067360" y="1317600"/>
                <a:ext cx="217944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e7e6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5"/>
              <p:cNvSpPr/>
              <p:nvPr/>
            </p:nvSpPr>
            <p:spPr>
              <a:xfrm>
                <a:off x="5066280" y="1319040"/>
                <a:ext cx="2135520" cy="647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decd"/>
                  </a:gs>
                  <a:gs pos="50000">
                    <a:srgbClr val="ffba97"/>
                  </a:gs>
                  <a:gs pos="100000">
                    <a:srgbClr val="ffdecd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6"/>
              <p:cNvSpPr/>
              <p:nvPr/>
            </p:nvSpPr>
            <p:spPr>
              <a:xfrm rot="10800000">
                <a:off x="5066280" y="1679400"/>
                <a:ext cx="213552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7"/>
              <p:cNvSpPr/>
              <p:nvPr/>
            </p:nvSpPr>
            <p:spPr>
              <a:xfrm>
                <a:off x="5066280" y="1319040"/>
                <a:ext cx="2135520" cy="287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8"/>
            <p:cNvSpPr/>
            <p:nvPr/>
          </p:nvSpPr>
          <p:spPr>
            <a:xfrm>
              <a:off x="4910040" y="1378080"/>
              <a:ext cx="245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实验结论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0"/>
          <p:cNvSpPr/>
          <p:nvPr/>
        </p:nvSpPr>
        <p:spPr>
          <a:xfrm>
            <a:off x="5062680" y="2076480"/>
            <a:ext cx="3487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物体受到的重力大小跟它的质量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062680" y="3637080"/>
            <a:ext cx="3429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物重跟质量的比约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329080" y="29718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正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6342120" y="40402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 N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7" descr=""/>
          <p:cNvPicPr/>
          <p:nvPr/>
        </p:nvPicPr>
        <p:blipFill>
          <a:blip r:embed="rId1"/>
          <a:stretch/>
        </p:blipFill>
        <p:spPr>
          <a:xfrm>
            <a:off x="717480" y="1482840"/>
            <a:ext cx="37688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矩形 1" descr=""/>
          <p:cNvPicPr/>
          <p:nvPr/>
        </p:nvPicPr>
        <p:blipFill>
          <a:blip r:embed="rId1"/>
          <a:stretch/>
        </p:blipFill>
        <p:spPr>
          <a:xfrm>
            <a:off x="668160" y="660240"/>
            <a:ext cx="7932960" cy="1987560"/>
          </a:xfrm>
          <a:prstGeom prst="rect">
            <a:avLst/>
          </a:prstGeom>
          <a:ln w="0">
            <a:noFill/>
          </a:ln>
        </p:spPr>
      </p:pic>
      <p:sp>
        <p:nvSpPr>
          <p:cNvPr id="262" name="矩形 5"/>
          <p:cNvSpPr/>
          <p:nvPr/>
        </p:nvSpPr>
        <p:spPr>
          <a:xfrm>
            <a:off x="2665440" y="207180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6" descr=""/>
          <p:cNvPicPr/>
          <p:nvPr/>
        </p:nvPicPr>
        <p:blipFill>
          <a:blip r:embed="rId2"/>
          <a:srcRect l="0" t="0" r="60370" b="49734"/>
          <a:stretch/>
        </p:blipFill>
        <p:spPr>
          <a:xfrm>
            <a:off x="349200" y="2755800"/>
            <a:ext cx="2025720" cy="16160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7" descr=""/>
          <p:cNvPicPr/>
          <p:nvPr/>
        </p:nvPicPr>
        <p:blipFill>
          <a:blip r:embed="rId3"/>
          <a:srcRect l="59743" t="0" r="0" b="49479"/>
          <a:stretch/>
        </p:blipFill>
        <p:spPr>
          <a:xfrm>
            <a:off x="2468520" y="2754360"/>
            <a:ext cx="2055960" cy="16254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8" descr=""/>
          <p:cNvPicPr/>
          <p:nvPr/>
        </p:nvPicPr>
        <p:blipFill>
          <a:blip r:embed="rId4"/>
          <a:srcRect l="0" t="52557" r="59933" b="0"/>
          <a:stretch/>
        </p:blipFill>
        <p:spPr>
          <a:xfrm>
            <a:off x="4618080" y="2792520"/>
            <a:ext cx="2046240" cy="152532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9" descr=""/>
          <p:cNvPicPr/>
          <p:nvPr/>
        </p:nvPicPr>
        <p:blipFill>
          <a:blip r:embed="rId5"/>
          <a:srcRect l="59423" t="51562" r="0" b="0"/>
          <a:stretch/>
        </p:blipFill>
        <p:spPr>
          <a:xfrm>
            <a:off x="6759720" y="2722680"/>
            <a:ext cx="2071440" cy="1557360"/>
          </a:xfrm>
          <a:prstGeom prst="rect">
            <a:avLst/>
          </a:prstGeom>
          <a:ln w="0">
            <a:noFill/>
          </a:ln>
        </p:spPr>
      </p:pic>
      <p:sp>
        <p:nvSpPr>
          <p:cNvPr id="267" name="直接连接符 12"/>
          <p:cNvSpPr/>
          <p:nvPr/>
        </p:nvSpPr>
        <p:spPr>
          <a:xfrm>
            <a:off x="4352760" y="1143000"/>
            <a:ext cx="12668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矩形 5" descr=""/>
          <p:cNvPicPr/>
          <p:nvPr/>
        </p:nvPicPr>
        <p:blipFill>
          <a:blip r:embed="rId1"/>
          <a:stretch/>
        </p:blipFill>
        <p:spPr>
          <a:xfrm>
            <a:off x="677880" y="336600"/>
            <a:ext cx="7999560" cy="198756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6" descr=""/>
          <p:cNvPicPr/>
          <p:nvPr/>
        </p:nvPicPr>
        <p:blipFill>
          <a:blip r:embed="rId2"/>
          <a:srcRect l="0" t="0" r="69318" b="0"/>
          <a:stretch/>
        </p:blipFill>
        <p:spPr>
          <a:xfrm>
            <a:off x="3822840" y="1743120"/>
            <a:ext cx="123480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70" name="组合 9"/>
          <p:cNvGrpSpPr/>
          <p:nvPr/>
        </p:nvGrpSpPr>
        <p:grpSpPr>
          <a:xfrm>
            <a:off x="3989520" y="3968640"/>
            <a:ext cx="568080" cy="1173240"/>
            <a:chOff x="3989520" y="3968640"/>
            <a:chExt cx="568080" cy="1173240"/>
          </a:xfrm>
        </p:grpSpPr>
        <p:sp>
          <p:nvSpPr>
            <p:cNvPr id="271" name="矩形 7"/>
            <p:cNvSpPr/>
            <p:nvPr/>
          </p:nvSpPr>
          <p:spPr>
            <a:xfrm>
              <a:off x="3989520" y="4621320"/>
              <a:ext cx="56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2" name="直接箭头连接符 8"/>
            <p:cNvCxnSpPr/>
            <p:nvPr/>
          </p:nvCxnSpPr>
          <p:spPr>
            <a:xfrm>
              <a:off x="4220640" y="3968640"/>
              <a:ext cx="1080" cy="72000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</p:grpSp>
      <p:grpSp>
        <p:nvGrpSpPr>
          <p:cNvPr id="273" name="组合 10"/>
          <p:cNvGrpSpPr/>
          <p:nvPr/>
        </p:nvGrpSpPr>
        <p:grpSpPr>
          <a:xfrm>
            <a:off x="3084480" y="3735360"/>
            <a:ext cx="1152720" cy="520560"/>
            <a:chOff x="3084480" y="3735360"/>
            <a:chExt cx="1152720" cy="520560"/>
          </a:xfrm>
        </p:grpSpPr>
        <p:sp>
          <p:nvSpPr>
            <p:cNvPr id="274" name="矩形 11"/>
            <p:cNvSpPr/>
            <p:nvPr/>
          </p:nvSpPr>
          <p:spPr>
            <a:xfrm>
              <a:off x="3084480" y="3735360"/>
              <a:ext cx="56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5" name="直接箭头连接符 12"/>
            <p:cNvCxnSpPr/>
            <p:nvPr/>
          </p:nvCxnSpPr>
          <p:spPr>
            <a:xfrm flipH="1">
              <a:off x="3516120" y="3995280"/>
              <a:ext cx="72144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</p:grpSp>
      <p:grpSp>
        <p:nvGrpSpPr>
          <p:cNvPr id="276" name="组合 14"/>
          <p:cNvGrpSpPr/>
          <p:nvPr/>
        </p:nvGrpSpPr>
        <p:grpSpPr>
          <a:xfrm>
            <a:off x="4017960" y="2325600"/>
            <a:ext cx="568440" cy="1710000"/>
            <a:chOff x="4017960" y="2325600"/>
            <a:chExt cx="568440" cy="1710000"/>
          </a:xfrm>
        </p:grpSpPr>
        <p:sp>
          <p:nvSpPr>
            <p:cNvPr id="277" name="矩形 15"/>
            <p:cNvSpPr/>
            <p:nvPr/>
          </p:nvSpPr>
          <p:spPr>
            <a:xfrm>
              <a:off x="4017960" y="2325600"/>
              <a:ext cx="56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8" name="直接箭头连接符 16"/>
            <p:cNvCxnSpPr/>
            <p:nvPr/>
          </p:nvCxnSpPr>
          <p:spPr>
            <a:xfrm flipV="1">
              <a:off x="4211280" y="2652120"/>
              <a:ext cx="275400" cy="138384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27"/>
          <p:cNvGrpSpPr/>
          <p:nvPr/>
        </p:nvGrpSpPr>
        <p:grpSpPr>
          <a:xfrm>
            <a:off x="609480" y="615960"/>
            <a:ext cx="8093160" cy="3948120"/>
            <a:chOff x="609480" y="615960"/>
            <a:chExt cx="8093160" cy="3948120"/>
          </a:xfrm>
        </p:grpSpPr>
        <p:grpSp>
          <p:nvGrpSpPr>
            <p:cNvPr id="280" name="组合 1"/>
            <p:cNvGrpSpPr/>
            <p:nvPr/>
          </p:nvGrpSpPr>
          <p:grpSpPr>
            <a:xfrm>
              <a:off x="609480" y="1994040"/>
              <a:ext cx="1914120" cy="1818000"/>
              <a:chOff x="609480" y="1994040"/>
              <a:chExt cx="1914120" cy="1818000"/>
            </a:xfrm>
          </p:grpSpPr>
          <p:sp>
            <p:nvSpPr>
              <p:cNvPr id="281" name="Text Box 3"/>
              <p:cNvSpPr/>
              <p:nvPr/>
            </p:nvSpPr>
            <p:spPr>
              <a:xfrm>
                <a:off x="609480" y="3291480"/>
                <a:ext cx="971640" cy="520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800000"/>
                </a:solidFill>
                <a:miter/>
              </a:ln>
              <a:effectLst>
                <a:outerShdw dist="76367" dir="2700000" blurRad="0" rotWithShape="0">
                  <a:srgbClr val="e7e6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重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4"/>
              <p:cNvSpPr/>
              <p:nvPr/>
            </p:nvSpPr>
            <p:spPr>
              <a:xfrm>
                <a:off x="609480" y="1994040"/>
                <a:ext cx="971640" cy="520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800000"/>
                </a:solidFill>
                <a:miter/>
              </a:ln>
              <a:effectLst>
                <a:outerShdw dist="76367" dir="2700000" blurRad="0" rotWithShape="0">
                  <a:srgbClr val="e7e6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弹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25"/>
              <p:cNvGrpSpPr/>
              <p:nvPr/>
            </p:nvGrpSpPr>
            <p:grpSpPr>
              <a:xfrm>
                <a:off x="1599480" y="2295360"/>
                <a:ext cx="924120" cy="1295640"/>
                <a:chOff x="1599480" y="2295360"/>
                <a:chExt cx="924120" cy="1295640"/>
              </a:xfrm>
            </p:grpSpPr>
            <p:sp>
              <p:nvSpPr>
                <p:cNvPr id="284" name="直接连接符 5"/>
                <p:cNvSpPr/>
                <p:nvPr/>
              </p:nvSpPr>
              <p:spPr>
                <a:xfrm>
                  <a:off x="2085840" y="2924280"/>
                  <a:ext cx="437760" cy="0"/>
                </a:xfrm>
                <a:prstGeom prst="line">
                  <a:avLst/>
                </a:prstGeom>
                <a:ln w="38160">
                  <a:solidFill>
                    <a:srgbClr val="222a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直接连接符 6"/>
                <p:cNvSpPr/>
                <p:nvPr/>
              </p:nvSpPr>
              <p:spPr>
                <a:xfrm>
                  <a:off x="2091240" y="2298960"/>
                  <a:ext cx="0" cy="1289160"/>
                </a:xfrm>
                <a:prstGeom prst="line">
                  <a:avLst/>
                </a:prstGeom>
                <a:ln w="38160">
                  <a:solidFill>
                    <a:srgbClr val="222a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86" name="直接箭头连接符 7"/>
                <p:cNvCxnSpPr/>
                <p:nvPr/>
              </p:nvCxnSpPr>
              <p:spPr>
                <a:xfrm flipH="1">
                  <a:off x="1609920" y="2295360"/>
                  <a:ext cx="498960" cy="1080"/>
                </a:xfrm>
                <a:prstGeom prst="straightConnector1">
                  <a:avLst/>
                </a:prstGeom>
                <a:ln w="38160">
                  <a:solidFill>
                    <a:srgbClr val="10253f"/>
                  </a:solidFill>
                  <a:round/>
                  <a:tailEnd len="med" type="arrow" w="med"/>
                </a:ln>
              </p:spPr>
            </p:cxnSp>
            <p:cxnSp>
              <p:nvCxnSpPr>
                <p:cNvPr id="287" name="直接箭头连接符 8"/>
                <p:cNvCxnSpPr/>
                <p:nvPr/>
              </p:nvCxnSpPr>
              <p:spPr>
                <a:xfrm flipH="1">
                  <a:off x="1599480" y="3578040"/>
                  <a:ext cx="498960" cy="13320"/>
                </a:xfrm>
                <a:prstGeom prst="straightConnector1">
                  <a:avLst/>
                </a:prstGeom>
                <a:ln w="38160">
                  <a:solidFill>
                    <a:srgbClr val="10253f"/>
                  </a:solidFill>
                  <a:round/>
                  <a:tailEnd len="med" type="arrow" w="med"/>
                </a:ln>
              </p:spPr>
            </p:cxnSp>
          </p:grpSp>
        </p:grpSp>
        <p:sp>
          <p:nvSpPr>
            <p:cNvPr id="288" name="Text Box 2"/>
            <p:cNvSpPr/>
            <p:nvPr/>
          </p:nvSpPr>
          <p:spPr>
            <a:xfrm>
              <a:off x="2535840" y="2654640"/>
              <a:ext cx="606960" cy="498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6367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组合 10"/>
            <p:cNvGrpSpPr/>
            <p:nvPr/>
          </p:nvGrpSpPr>
          <p:grpSpPr>
            <a:xfrm>
              <a:off x="3173400" y="615960"/>
              <a:ext cx="5529240" cy="3948120"/>
              <a:chOff x="3173400" y="615960"/>
              <a:chExt cx="5529240" cy="39481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313160" y="1986840"/>
                <a:ext cx="2554560" cy="520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800000"/>
                </a:solidFill>
                <a:miter/>
              </a:ln>
              <a:effectLst>
                <a:outerShdw dist="76367" dir="2700000" blurRad="0" rotWithShape="0">
                  <a:srgbClr val="e7e6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力的作用效果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7"/>
              <p:cNvSpPr/>
              <p:nvPr/>
            </p:nvSpPr>
            <p:spPr>
              <a:xfrm>
                <a:off x="4313160" y="1301400"/>
                <a:ext cx="1860840" cy="520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800000"/>
                </a:solidFill>
                <a:miter/>
              </a:ln>
              <a:effectLst>
                <a:outerShdw dist="76367" dir="2700000" blurRad="0" rotWithShape="0">
                  <a:srgbClr val="e7e6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力的单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"/>
              <p:cNvSpPr/>
              <p:nvPr/>
            </p:nvSpPr>
            <p:spPr>
              <a:xfrm>
                <a:off x="4313160" y="2672280"/>
                <a:ext cx="2286000" cy="520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800000"/>
                </a:solidFill>
                <a:miter/>
              </a:ln>
              <a:effectLst>
                <a:outerShdw dist="76367" dir="2700000" blurRad="0" rotWithShape="0">
                  <a:srgbClr val="e7e6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力的三要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10"/>
              <p:cNvSpPr/>
              <p:nvPr/>
            </p:nvSpPr>
            <p:spPr>
              <a:xfrm>
                <a:off x="4313160" y="3357720"/>
                <a:ext cx="2301840" cy="520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800000"/>
                </a:solidFill>
                <a:miter/>
              </a:ln>
              <a:effectLst>
                <a:outerShdw dist="76367" dir="2700000" blurRad="0" rotWithShape="0">
                  <a:srgbClr val="e7e6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力的示意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3"/>
              <p:cNvSpPr/>
              <p:nvPr/>
            </p:nvSpPr>
            <p:spPr>
              <a:xfrm>
                <a:off x="4313160" y="615960"/>
                <a:ext cx="1828800" cy="520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800000"/>
                </a:solidFill>
                <a:miter/>
              </a:ln>
              <a:effectLst>
                <a:outerShdw dist="76367" dir="2700000" blurRad="0" rotWithShape="0">
                  <a:srgbClr val="e7e6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力的定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4313160" y="4043520"/>
                <a:ext cx="4389480" cy="520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800000"/>
                </a:solidFill>
                <a:miter/>
              </a:ln>
              <a:effectLst>
                <a:outerShdw dist="76367" dir="2700000" blurRad="0" rotWithShape="0">
                  <a:srgbClr val="e7e6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物体间力的作用是相互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26"/>
              <p:cNvGrpSpPr/>
              <p:nvPr/>
            </p:nvGrpSpPr>
            <p:grpSpPr>
              <a:xfrm>
                <a:off x="3173400" y="885600"/>
                <a:ext cx="1158840" cy="3428280"/>
                <a:chOff x="3173400" y="885600"/>
                <a:chExt cx="1158840" cy="3428280"/>
              </a:xfrm>
            </p:grpSpPr>
            <p:sp>
              <p:nvSpPr>
                <p:cNvPr id="297" name="Line 27"/>
                <p:cNvSpPr/>
                <p:nvPr/>
              </p:nvSpPr>
              <p:spPr>
                <a:xfrm>
                  <a:off x="3558960" y="885600"/>
                  <a:ext cx="0" cy="3428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28"/>
                <p:cNvSpPr/>
                <p:nvPr/>
              </p:nvSpPr>
              <p:spPr>
                <a:xfrm>
                  <a:off x="3173400" y="2938320"/>
                  <a:ext cx="11523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9"/>
                <p:cNvSpPr/>
                <p:nvPr/>
              </p:nvSpPr>
              <p:spPr>
                <a:xfrm>
                  <a:off x="3558960" y="885600"/>
                  <a:ext cx="762120" cy="1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30"/>
                <p:cNvSpPr/>
                <p:nvPr/>
              </p:nvSpPr>
              <p:spPr>
                <a:xfrm>
                  <a:off x="3539880" y="1559520"/>
                  <a:ext cx="792360" cy="1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31"/>
                <p:cNvSpPr/>
                <p:nvPr/>
              </p:nvSpPr>
              <p:spPr>
                <a:xfrm>
                  <a:off x="3558960" y="2243160"/>
                  <a:ext cx="762120" cy="1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32"/>
                <p:cNvSpPr/>
                <p:nvPr/>
              </p:nvSpPr>
              <p:spPr>
                <a:xfrm>
                  <a:off x="3566880" y="3623760"/>
                  <a:ext cx="762120" cy="1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33"/>
                <p:cNvSpPr/>
                <p:nvPr/>
              </p:nvSpPr>
              <p:spPr>
                <a:xfrm>
                  <a:off x="3548160" y="4303800"/>
                  <a:ext cx="761760" cy="1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TextBox 24"/>
          <p:cNvSpPr/>
          <p:nvPr/>
        </p:nvSpPr>
        <p:spPr>
          <a:xfrm>
            <a:off x="6535800" y="752400"/>
            <a:ext cx="1931760" cy="581400"/>
          </a:xfrm>
          <a:prstGeom prst="rect">
            <a:avLst/>
          </a:prstGeom>
          <a:gradFill rotWithShape="0">
            <a:gsLst>
              <a:gs pos="0">
                <a:srgbClr val="ffc746"/>
              </a:gs>
              <a:gs pos="100000">
                <a:srgbClr val="e5b6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注重概念的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5"/>
          <p:cNvSpPr/>
          <p:nvPr/>
        </p:nvSpPr>
        <p:spPr>
          <a:xfrm>
            <a:off x="6881760" y="2757600"/>
            <a:ext cx="1766880" cy="581400"/>
          </a:xfrm>
          <a:prstGeom prst="rect">
            <a:avLst/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注重受力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4"/>
          <p:cNvGrpSpPr/>
          <p:nvPr/>
        </p:nvGrpSpPr>
        <p:grpSpPr>
          <a:xfrm>
            <a:off x="74520" y="65160"/>
            <a:ext cx="3954600" cy="639720"/>
            <a:chOff x="74520" y="65160"/>
            <a:chExt cx="3954600" cy="639720"/>
          </a:xfrm>
        </p:grpSpPr>
        <p:pic>
          <p:nvPicPr>
            <p:cNvPr id="307" name="Picture 2" descr="E:\R九物下\物理大标.png"/>
            <p:cNvPicPr/>
            <p:nvPr/>
          </p:nvPicPr>
          <p:blipFill>
            <a:blip r:embed="rId1"/>
            <a:stretch/>
          </p:blipFill>
          <p:spPr>
            <a:xfrm>
              <a:off x="74520" y="65160"/>
              <a:ext cx="3827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1"/>
            <p:cNvSpPr/>
            <p:nvPr/>
          </p:nvSpPr>
          <p:spPr>
            <a:xfrm>
              <a:off x="83880" y="116640"/>
              <a:ext cx="22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堂教学展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34"/>
            <p:cNvSpPr/>
            <p:nvPr/>
          </p:nvSpPr>
          <p:spPr>
            <a:xfrm>
              <a:off x="2252520" y="74520"/>
              <a:ext cx="17766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组合 4"/>
          <p:cNvGrpSpPr/>
          <p:nvPr/>
        </p:nvGrpSpPr>
        <p:grpSpPr>
          <a:xfrm>
            <a:off x="74520" y="65160"/>
            <a:ext cx="3954600" cy="639720"/>
            <a:chOff x="74520" y="65160"/>
            <a:chExt cx="3954600" cy="639720"/>
          </a:xfrm>
        </p:grpSpPr>
        <p:pic>
          <p:nvPicPr>
            <p:cNvPr id="311" name="Picture 2" descr="E:\R九物下\物理大标.png"/>
            <p:cNvPicPr/>
            <p:nvPr/>
          </p:nvPicPr>
          <p:blipFill>
            <a:blip r:embed="rId1"/>
            <a:stretch/>
          </p:blipFill>
          <p:spPr>
            <a:xfrm>
              <a:off x="74520" y="65160"/>
              <a:ext cx="3827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Box 1"/>
            <p:cNvSpPr/>
            <p:nvPr/>
          </p:nvSpPr>
          <p:spPr>
            <a:xfrm>
              <a:off x="83880" y="116640"/>
              <a:ext cx="22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堂教学展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11"/>
            <p:cNvSpPr/>
            <p:nvPr/>
          </p:nvSpPr>
          <p:spPr>
            <a:xfrm>
              <a:off x="2252520" y="74520"/>
              <a:ext cx="17766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教学板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图片 1" descr=""/>
          <p:cNvPicPr/>
          <p:nvPr/>
        </p:nvPicPr>
        <p:blipFill>
          <a:blip r:embed="rId2"/>
          <a:stretch/>
        </p:blipFill>
        <p:spPr>
          <a:xfrm>
            <a:off x="1947960" y="685800"/>
            <a:ext cx="50641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959120" y="1409760"/>
            <a:ext cx="597204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课后习题中选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练习册本课时的习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4"/>
          <p:cNvGrpSpPr/>
          <p:nvPr/>
        </p:nvGrpSpPr>
        <p:grpSpPr>
          <a:xfrm>
            <a:off x="74520" y="65160"/>
            <a:ext cx="3954600" cy="639720"/>
            <a:chOff x="74520" y="65160"/>
            <a:chExt cx="3954600" cy="639720"/>
          </a:xfrm>
        </p:grpSpPr>
        <p:pic>
          <p:nvPicPr>
            <p:cNvPr id="317" name="Picture 2" descr="E:\R九物下\物理大标.png"/>
            <p:cNvPicPr/>
            <p:nvPr/>
          </p:nvPicPr>
          <p:blipFill>
            <a:blip r:embed="rId1"/>
            <a:stretch/>
          </p:blipFill>
          <p:spPr>
            <a:xfrm>
              <a:off x="74520" y="65160"/>
              <a:ext cx="3827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1"/>
            <p:cNvSpPr/>
            <p:nvPr/>
          </p:nvSpPr>
          <p:spPr>
            <a:xfrm>
              <a:off x="83880" y="116640"/>
              <a:ext cx="22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后反馈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11"/>
            <p:cNvSpPr/>
            <p:nvPr/>
          </p:nvSpPr>
          <p:spPr>
            <a:xfrm>
              <a:off x="2252520" y="74520"/>
              <a:ext cx="17766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布置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7"/>
          <p:cNvSpPr/>
          <p:nvPr/>
        </p:nvSpPr>
        <p:spPr>
          <a:xfrm>
            <a:off x="657360" y="7002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695160" y="1266840"/>
            <a:ext cx="78678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归纳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整合本章知识点之间存在的联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观察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观察弹簧测力计的构造，观察弹簧测力计的最大刻度和最小刻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讲练结合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通过典型习题的讲练，帮助学生加深理解知识的内涵，熟悉解题方法与技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43"/>
          <p:cNvGrpSpPr/>
          <p:nvPr/>
        </p:nvGrpSpPr>
        <p:grpSpPr>
          <a:xfrm>
            <a:off x="714240" y="2108160"/>
            <a:ext cx="1914480" cy="1818000"/>
            <a:chOff x="714240" y="2108160"/>
            <a:chExt cx="1914480" cy="1818000"/>
          </a:xfrm>
        </p:grpSpPr>
        <p:sp>
          <p:nvSpPr>
            <p:cNvPr id="94" name="Text Box 3"/>
            <p:cNvSpPr/>
            <p:nvPr/>
          </p:nvSpPr>
          <p:spPr>
            <a:xfrm>
              <a:off x="714240" y="3405600"/>
              <a:ext cx="97164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6367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重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714240" y="2108160"/>
              <a:ext cx="97164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6367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弹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25"/>
            <p:cNvGrpSpPr/>
            <p:nvPr/>
          </p:nvGrpSpPr>
          <p:grpSpPr>
            <a:xfrm>
              <a:off x="1704600" y="2409480"/>
              <a:ext cx="924120" cy="1296000"/>
              <a:chOff x="1704600" y="2409480"/>
              <a:chExt cx="924120" cy="1296000"/>
            </a:xfrm>
          </p:grpSpPr>
          <p:sp>
            <p:nvSpPr>
              <p:cNvPr id="97" name="直接连接符 14"/>
              <p:cNvSpPr/>
              <p:nvPr/>
            </p:nvSpPr>
            <p:spPr>
              <a:xfrm>
                <a:off x="2190960" y="3038400"/>
                <a:ext cx="437760" cy="0"/>
              </a:xfrm>
              <a:prstGeom prst="line">
                <a:avLst/>
              </a:prstGeom>
              <a:ln w="38160">
                <a:solidFill>
                  <a:srgbClr val="22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15"/>
              <p:cNvSpPr/>
              <p:nvPr/>
            </p:nvSpPr>
            <p:spPr>
              <a:xfrm>
                <a:off x="2197800" y="2413080"/>
                <a:ext cx="0" cy="1289520"/>
              </a:xfrm>
              <a:prstGeom prst="line">
                <a:avLst/>
              </a:prstGeom>
              <a:ln w="38160">
                <a:solidFill>
                  <a:srgbClr val="22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9" name="直接箭头连接符 16"/>
              <p:cNvCxnSpPr/>
              <p:nvPr/>
            </p:nvCxnSpPr>
            <p:spPr>
              <a:xfrm flipH="1">
                <a:off x="1715040" y="2409480"/>
                <a:ext cx="498960" cy="1080"/>
              </a:xfrm>
              <a:prstGeom prst="straightConnector1">
                <a:avLst/>
              </a:prstGeom>
              <a:ln w="38160">
                <a:solidFill>
                  <a:srgbClr val="10253f"/>
                </a:solidFill>
                <a:round/>
                <a:tailEnd len="med" type="arrow" w="med"/>
              </a:ln>
            </p:spPr>
          </p:cxnSp>
          <p:cxnSp>
            <p:nvCxnSpPr>
              <p:cNvPr id="100" name="直接箭头连接符 17"/>
              <p:cNvCxnSpPr/>
              <p:nvPr/>
            </p:nvCxnSpPr>
            <p:spPr>
              <a:xfrm flipH="1">
                <a:off x="1704600" y="3692520"/>
                <a:ext cx="498960" cy="13320"/>
              </a:xfrm>
              <a:prstGeom prst="straightConnector1">
                <a:avLst/>
              </a:prstGeom>
              <a:ln w="38160">
                <a:solidFill>
                  <a:srgbClr val="10253f"/>
                </a:solidFill>
                <a:round/>
                <a:tailEnd len="med" type="arrow" w="med"/>
              </a:ln>
            </p:spPr>
          </p:cxnSp>
        </p:grpSp>
      </p:grpSp>
      <p:sp>
        <p:nvSpPr>
          <p:cNvPr id="101" name="Text Box 2"/>
          <p:cNvSpPr/>
          <p:nvPr/>
        </p:nvSpPr>
        <p:spPr>
          <a:xfrm>
            <a:off x="2640960" y="2768760"/>
            <a:ext cx="606960" cy="49824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  <a:effectLst>
            <a:outerShdw dist="76367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4"/>
          <p:cNvGrpSpPr/>
          <p:nvPr/>
        </p:nvGrpSpPr>
        <p:grpSpPr>
          <a:xfrm>
            <a:off x="3278160" y="730080"/>
            <a:ext cx="5529240" cy="3948480"/>
            <a:chOff x="3278160" y="730080"/>
            <a:chExt cx="5529240" cy="3948480"/>
          </a:xfrm>
        </p:grpSpPr>
        <p:sp>
          <p:nvSpPr>
            <p:cNvPr id="103" name="Text Box 6"/>
            <p:cNvSpPr/>
            <p:nvPr/>
          </p:nvSpPr>
          <p:spPr>
            <a:xfrm>
              <a:off x="4417920" y="2100960"/>
              <a:ext cx="255456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6367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力的作用效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"/>
            <p:cNvSpPr/>
            <p:nvPr/>
          </p:nvSpPr>
          <p:spPr>
            <a:xfrm>
              <a:off x="4417920" y="1415520"/>
              <a:ext cx="186084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6367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力的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4417920" y="2786760"/>
              <a:ext cx="228600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6367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力的三要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4417920" y="3472200"/>
              <a:ext cx="230184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6367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力的示意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3"/>
            <p:cNvSpPr/>
            <p:nvPr/>
          </p:nvSpPr>
          <p:spPr>
            <a:xfrm>
              <a:off x="4417920" y="730080"/>
              <a:ext cx="182880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6367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力的定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4"/>
            <p:cNvSpPr/>
            <p:nvPr/>
          </p:nvSpPr>
          <p:spPr>
            <a:xfrm>
              <a:off x="4417920" y="4158000"/>
              <a:ext cx="438948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6367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物体间力的作用是相互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6"/>
            <p:cNvGrpSpPr/>
            <p:nvPr/>
          </p:nvGrpSpPr>
          <p:grpSpPr>
            <a:xfrm>
              <a:off x="3278160" y="999720"/>
              <a:ext cx="1158840" cy="3428640"/>
              <a:chOff x="3278160" y="999720"/>
              <a:chExt cx="1158840" cy="3428640"/>
            </a:xfrm>
          </p:grpSpPr>
          <p:sp>
            <p:nvSpPr>
              <p:cNvPr id="110" name="Line 27"/>
              <p:cNvSpPr/>
              <p:nvPr/>
            </p:nvSpPr>
            <p:spPr>
              <a:xfrm>
                <a:off x="3663720" y="999720"/>
                <a:ext cx="0" cy="3428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8"/>
              <p:cNvSpPr/>
              <p:nvPr/>
            </p:nvSpPr>
            <p:spPr>
              <a:xfrm>
                <a:off x="3278160" y="3052800"/>
                <a:ext cx="11523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9"/>
              <p:cNvSpPr/>
              <p:nvPr/>
            </p:nvSpPr>
            <p:spPr>
              <a:xfrm>
                <a:off x="3663720" y="999720"/>
                <a:ext cx="762120" cy="1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0"/>
              <p:cNvSpPr/>
              <p:nvPr/>
            </p:nvSpPr>
            <p:spPr>
              <a:xfrm>
                <a:off x="3644640" y="1673640"/>
                <a:ext cx="792360" cy="1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1"/>
              <p:cNvSpPr/>
              <p:nvPr/>
            </p:nvSpPr>
            <p:spPr>
              <a:xfrm>
                <a:off x="3663720" y="2357640"/>
                <a:ext cx="762120" cy="1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2"/>
              <p:cNvSpPr/>
              <p:nvPr/>
            </p:nvSpPr>
            <p:spPr>
              <a:xfrm>
                <a:off x="3671640" y="3738240"/>
                <a:ext cx="762120" cy="1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3"/>
              <p:cNvSpPr/>
              <p:nvPr/>
            </p:nvSpPr>
            <p:spPr>
              <a:xfrm>
                <a:off x="3652920" y="4418280"/>
                <a:ext cx="761760" cy="1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"/>
          <p:cNvGrpSpPr/>
          <p:nvPr/>
        </p:nvGrpSpPr>
        <p:grpSpPr>
          <a:xfrm>
            <a:off x="74520" y="65160"/>
            <a:ext cx="3954600" cy="639720"/>
            <a:chOff x="74520" y="65160"/>
            <a:chExt cx="3954600" cy="639720"/>
          </a:xfrm>
        </p:grpSpPr>
        <p:pic>
          <p:nvPicPr>
            <p:cNvPr id="118" name="Picture 2" descr="E:\R九物下\物理大标.png"/>
            <p:cNvPicPr/>
            <p:nvPr/>
          </p:nvPicPr>
          <p:blipFill>
            <a:blip r:embed="rId1"/>
            <a:stretch/>
          </p:blipFill>
          <p:spPr>
            <a:xfrm>
              <a:off x="74520" y="65160"/>
              <a:ext cx="3827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Box 1"/>
            <p:cNvSpPr/>
            <p:nvPr/>
          </p:nvSpPr>
          <p:spPr>
            <a:xfrm>
              <a:off x="83880" y="116640"/>
              <a:ext cx="22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堂教学展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23"/>
            <p:cNvSpPr/>
            <p:nvPr/>
          </p:nvSpPr>
          <p:spPr>
            <a:xfrm>
              <a:off x="2252520" y="74520"/>
              <a:ext cx="17766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复习巩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4"/>
          <p:cNvSpPr/>
          <p:nvPr/>
        </p:nvSpPr>
        <p:spPr>
          <a:xfrm>
            <a:off x="663480" y="71748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2433600" y="727200"/>
            <a:ext cx="8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704880" y="1106640"/>
            <a:ext cx="7839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当物体发生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  <a:ea typeface="黑体"/>
              </a:rPr>
              <a:t>形变或运动状态发生改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也就是力产生效果时，可以判断物体受到了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40160" y="374760"/>
            <a:ext cx="3651840" cy="581400"/>
          </a:xfrm>
          <a:prstGeom prst="rect">
            <a:avLst/>
          </a:prstGeom>
          <a:solidFill>
            <a:srgbClr val="ffcfb7"/>
          </a:solidFill>
          <a:ln w="9360">
            <a:solidFill>
              <a:srgbClr val="ff87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怎样判断物体受到力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82480" y="2873520"/>
            <a:ext cx="4500720" cy="197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从静止变为运动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从运动变为静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运动快慢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运动方向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右箭头 4"/>
          <p:cNvSpPr/>
          <p:nvPr/>
        </p:nvSpPr>
        <p:spPr>
          <a:xfrm>
            <a:off x="5197320" y="365292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185160" y="3581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黑体"/>
              </a:rPr>
              <a:t>运动状态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矩形 1" descr=""/>
          <p:cNvPicPr/>
          <p:nvPr/>
        </p:nvPicPr>
        <p:blipFill>
          <a:blip r:embed="rId1"/>
          <a:stretch/>
        </p:blipFill>
        <p:spPr>
          <a:xfrm>
            <a:off x="617400" y="577800"/>
            <a:ext cx="801396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矩形 3"/>
          <p:cNvSpPr/>
          <p:nvPr/>
        </p:nvSpPr>
        <p:spPr>
          <a:xfrm>
            <a:off x="4392720" y="1039680"/>
            <a:ext cx="19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运动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116760" y="206856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互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6" descr=""/>
          <p:cNvPicPr/>
          <p:nvPr/>
        </p:nvPicPr>
        <p:blipFill>
          <a:blip r:embed="rId2"/>
          <a:stretch/>
        </p:blipFill>
        <p:spPr>
          <a:xfrm>
            <a:off x="1620720" y="2801880"/>
            <a:ext cx="2087640" cy="13939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3"/>
          <a:stretch/>
        </p:blipFill>
        <p:spPr>
          <a:xfrm>
            <a:off x="4422600" y="2900520"/>
            <a:ext cx="3424320" cy="1141200"/>
          </a:xfrm>
          <a:prstGeom prst="rect">
            <a:avLst/>
          </a:prstGeom>
          <a:ln w="0">
            <a:noFill/>
          </a:ln>
        </p:spPr>
      </p:pic>
      <p:sp>
        <p:nvSpPr>
          <p:cNvPr id="133" name="矩形 8"/>
          <p:cNvSpPr/>
          <p:nvPr/>
        </p:nvSpPr>
        <p:spPr>
          <a:xfrm>
            <a:off x="2591280" y="4273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6029640" y="4254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7"/>
          <p:cNvGrpSpPr/>
          <p:nvPr/>
        </p:nvGrpSpPr>
        <p:grpSpPr>
          <a:xfrm>
            <a:off x="3666960" y="2014560"/>
            <a:ext cx="5000400" cy="2961720"/>
            <a:chOff x="3666960" y="2014560"/>
            <a:chExt cx="5000400" cy="2961720"/>
          </a:xfrm>
        </p:grpSpPr>
        <p:pic>
          <p:nvPicPr>
            <p:cNvPr id="136" name="Picture 5" descr="图片1"/>
            <p:cNvPicPr/>
            <p:nvPr/>
          </p:nvPicPr>
          <p:blipFill>
            <a:blip r:embed="rId1"/>
            <a:srcRect l="0" t="0" r="18685" b="13033"/>
            <a:stretch/>
          </p:blipFill>
          <p:spPr>
            <a:xfrm rot="10800000">
              <a:off x="4878720" y="2271600"/>
              <a:ext cx="2796480" cy="270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7"/>
            <p:cNvSpPr/>
            <p:nvPr/>
          </p:nvSpPr>
          <p:spPr>
            <a:xfrm>
              <a:off x="6742440" y="2014560"/>
              <a:ext cx="1924920" cy="700560"/>
            </a:xfrm>
            <a:prstGeom prst="cloudCallout">
              <a:avLst>
                <a:gd name="adj1" fmla="val -48912"/>
                <a:gd name="adj2" fmla="val 119625"/>
              </a:avLst>
            </a:prstGeom>
            <a:solidFill>
              <a:srgbClr val="ffff99"/>
            </a:solidFill>
            <a:ln w="64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真费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"/>
            <p:cNvSpPr/>
            <p:nvPr/>
          </p:nvSpPr>
          <p:spPr>
            <a:xfrm flipH="1">
              <a:off x="3666960" y="2719080"/>
              <a:ext cx="1704960" cy="676080"/>
            </a:xfrm>
            <a:prstGeom prst="cloudCallout">
              <a:avLst>
                <a:gd name="adj1" fmla="val -46592"/>
                <a:gd name="adj2" fmla="val 139782"/>
              </a:avLst>
            </a:prstGeom>
            <a:solidFill>
              <a:srgbClr val="ffff99"/>
            </a:solidFill>
            <a:ln w="64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真轻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 flipV="1">
              <a:off x="5862600" y="4622760"/>
              <a:ext cx="1487160" cy="218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" descr="照片 002"/>
          <p:cNvPicPr/>
          <p:nvPr/>
        </p:nvPicPr>
        <p:blipFill>
          <a:blip r:embed="rId2">
            <a:biLevel thresh="50000"/>
          </a:blip>
          <a:srcRect l="44854" t="29161" r="28901" b="35109"/>
          <a:stretch/>
        </p:blipFill>
        <p:spPr>
          <a:xfrm>
            <a:off x="444600" y="1030320"/>
            <a:ext cx="2394000" cy="2444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3436920" y="942840"/>
            <a:ext cx="51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大小相同的力压、拉弹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74560" y="301680"/>
            <a:ext cx="7467840" cy="581400"/>
          </a:xfrm>
          <a:prstGeom prst="rect">
            <a:avLst/>
          </a:prstGeom>
          <a:solidFill>
            <a:srgbClr val="ffcfb7"/>
          </a:solidFill>
          <a:ln w="6480">
            <a:solidFill>
              <a:srgbClr val="ff87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想一想：这两幅图说明的物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标注 10"/>
          <p:cNvSpPr/>
          <p:nvPr/>
        </p:nvSpPr>
        <p:spPr>
          <a:xfrm>
            <a:off x="3144960" y="1434960"/>
            <a:ext cx="5329080" cy="608040"/>
          </a:xfrm>
          <a:prstGeom prst="wedgeRectCallout">
            <a:avLst>
              <a:gd name="adj1" fmla="val -59888"/>
              <a:gd name="adj2" fmla="val 118148"/>
            </a:avLst>
          </a:prstGeom>
          <a:solidFill>
            <a:srgbClr val="f79646"/>
          </a:solidFill>
          <a:ln w="1908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力的作用效果与力的方向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标注 11"/>
          <p:cNvSpPr/>
          <p:nvPr/>
        </p:nvSpPr>
        <p:spPr>
          <a:xfrm>
            <a:off x="804960" y="3670200"/>
            <a:ext cx="3095640" cy="1054080"/>
          </a:xfrm>
          <a:prstGeom prst="wedgeRectCallout">
            <a:avLst>
              <a:gd name="adj1" fmla="val 88462"/>
              <a:gd name="adj2" fmla="val 8106"/>
            </a:avLst>
          </a:prstGeom>
          <a:solidFill>
            <a:srgbClr val="9bbb59"/>
          </a:solidFill>
          <a:ln w="1908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力的作用效果与力的作用点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"/>
          <p:cNvPicPr/>
          <p:nvPr/>
        </p:nvPicPr>
        <p:blipFill>
          <a:blip r:embed="rId1"/>
          <a:stretch/>
        </p:blipFill>
        <p:spPr>
          <a:xfrm>
            <a:off x="5905440" y="2763720"/>
            <a:ext cx="2228760" cy="205596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3" descr=""/>
          <p:cNvPicPr/>
          <p:nvPr/>
        </p:nvPicPr>
        <p:blipFill>
          <a:blip r:embed="rId2"/>
          <a:stretch/>
        </p:blipFill>
        <p:spPr>
          <a:xfrm>
            <a:off x="531720" y="558720"/>
            <a:ext cx="8088480" cy="3662280"/>
          </a:xfrm>
          <a:prstGeom prst="rect">
            <a:avLst/>
          </a:prstGeom>
          <a:ln w="0">
            <a:noFill/>
          </a:ln>
        </p:spPr>
      </p:pic>
      <p:sp>
        <p:nvSpPr>
          <p:cNvPr id="147" name="矩形 4"/>
          <p:cNvSpPr/>
          <p:nvPr/>
        </p:nvSpPr>
        <p:spPr>
          <a:xfrm>
            <a:off x="7631280" y="1039680"/>
            <a:ext cx="11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快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2449440" y="203976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力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3564000" y="30877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560520" y="606600"/>
            <a:ext cx="80881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用相同的力分别在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点、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点推门，力的大小、方向均相同，但力的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不同，所以力的作用效果不同；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）以上事实说明：力的作用效果由力的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决定，这三者叫做力的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905440" y="2763720"/>
            <a:ext cx="2228760" cy="2055960"/>
          </a:xfrm>
          <a:prstGeom prst="rect">
            <a:avLst/>
          </a:prstGeom>
          <a:ln w="0">
            <a:noFill/>
          </a:ln>
        </p:spPr>
      </p:pic>
      <p:sp>
        <p:nvSpPr>
          <p:cNvPr id="152" name="矩形 3"/>
          <p:cNvSpPr/>
          <p:nvPr/>
        </p:nvSpPr>
        <p:spPr>
          <a:xfrm>
            <a:off x="5278320" y="108756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作用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2925720" y="21351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/>
          <p:cNvSpPr/>
          <p:nvPr/>
        </p:nvSpPr>
        <p:spPr>
          <a:xfrm>
            <a:off x="4564080" y="2125800"/>
            <a:ext cx="11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6202440" y="2097000"/>
            <a:ext cx="13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作用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0"/>
          <p:cNvSpPr/>
          <p:nvPr/>
        </p:nvSpPr>
        <p:spPr>
          <a:xfrm>
            <a:off x="3344760" y="263988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3:22:42Z</dcterms:created>
  <dc:creator/>
  <dc:description/>
  <dc:language>en-US</dc:language>
  <cp:lastModifiedBy>Administrator</cp:lastModifiedBy>
  <dcterms:modified xsi:type="dcterms:W3CDTF">2019-01-09T07:38:17Z</dcterms:modified>
  <cp:revision>766</cp:revision>
  <dc:subject/>
  <dc:title>本章复习和总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